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6.pct" ContentType="image/x-pict"/>
  <Override PartName="/ppt/media/image10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4.jpeg" ContentType="image/jpeg"/>
  <Override PartName="/ppt/media/image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111-9171-463E-A5D5-D43893CA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32F-B26E-4541-80E3-3CE9E3B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AAA-2101-4ADF-A926-64BC0C6F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B86-86ED-47F7-96DC-70E005B9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9D9-BAEF-46EE-B139-6CD5BA78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80A-4ECE-480D-AA9F-5B88E243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E96-9F37-46D6-BE8A-F119CFF4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E99-45E4-469B-BD7F-87538937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BB2-8918-4AF4-B5C7-8EE8A364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DCE-46D3-46E9-8482-A7ECA12B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83A-34B6-46F7-AA62-FB45529F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27F-28D1-4123-9DFF-0400FE55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A17F-F151-470D-BF3E-253E03C40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jpe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’s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ory of Evolution by 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d mechanisms of artificial selection (pigeon breed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939000" y="2438280"/>
            <a:ext cx="190008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43434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althu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say                      on the Principle of                   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7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3003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eory of Evolution by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dividuals within a species vary in many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ome of this variability can be inher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Every generation produces far more offspring that can survive and pass on their vari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Populations of species tend to remain  stable in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eory of Evolution by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erenc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Members of the same species compete with each other for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erence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dividuals with more favourable variations are more likely to survive and pass them on.  Survival is not ran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erence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As these individuals contribute proportionally more offspring to succeeding generations, the favourable variations will become more common.  (This is natural selectio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MS Bea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Darwin embarked on the second voyage of the HMS Beagle on December 27,1831, on a survey expedition under the command of Captain Robert Fitzr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purpose of the expedition was to map out the southern coast of South America, and Darwin was on board as a geologist, to collect specim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MS Beagle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ey was supposed to last 2 years, but the ship returned to England on October 2, 1836, almost 5 years after its depar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5720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arwin S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flora &amp; fauna (plants &amp; animals) on the Galapagos as on mainl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895840" cy="1812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86200" y="3048120"/>
            <a:ext cx="21589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2098440" cy="231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248520" y="548640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arwin Saw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pecies of finches and mocking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3146400" cy="373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7242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ssil recor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ptodon (like the armadil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atherium (like the sl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733560" cy="178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2286000" cy="181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349720" cy="189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934320" y="4648320"/>
            <a:ext cx="16761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ous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344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ous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4572000" cy="227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5816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tigial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581640" cy="3438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40384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6:28:46Z</dcterms:created>
  <dc:creator>rubina khan</dc:creator>
  <dc:description/>
  <dc:language>en-US</dc:language>
  <cp:lastModifiedBy>rubina khan</cp:lastModifiedBy>
  <dcterms:modified xsi:type="dcterms:W3CDTF">2010-02-10T04:15:37Z</dcterms:modified>
  <cp:revision>26</cp:revision>
  <dc:subject/>
  <dc:title>PowerPoint Presentation</dc:title>
</cp:coreProperties>
</file>